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3.jpeg" ContentType="image/jpeg"/>
  <Override PartName="/ppt/media/image27.wmf" ContentType="image/x-wmf"/>
  <Override PartName="/ppt/media/image4.wmf" ContentType="image/x-wmf"/>
  <Override PartName="/ppt/media/image2.wmf" ContentType="image/x-wmf"/>
  <Override PartName="/ppt/media/image25.jpeg" ContentType="image/jpeg"/>
  <Override PartName="/ppt/media/image10.wmf" ContentType="image/x-wmf"/>
  <Override PartName="/ppt/media/image5.wmf" ContentType="image/x-wmf"/>
  <Override PartName="/ppt/media/image30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9.jpeg" ContentType="image/jpeg"/>
  <Override PartName="/ppt/media/image29.wmf" ContentType="image/x-wmf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6.jpeg" ContentType="image/jpeg"/>
  <Override PartName="/ppt/media/image21.wmf" ContentType="image/x-wmf"/>
  <Override PartName="/ppt/media/image20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71A-F01B-4172-8E88-63FEB807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681-2F0A-4715-B40A-8CC64444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2C5-ED3D-43C9-B8BC-63B597F6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D3D-A9F5-48ED-B7F0-831B8510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DD4-AD4D-4381-BC61-B5D771CA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A31-4797-46A2-A199-7A4C6320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A04-E580-48FE-A8C5-47A632C8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1B7-1E52-4635-9B0B-CF9CE65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A38-F531-429C-83ED-0440043F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7D3-FD4C-40B9-B91D-FC16E0C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4B9-58C3-4B5D-9F3E-DD13AC8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53F-FE08-4DDC-8F14-8903C09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232-1F2B-41AE-90A1-12BDED82E8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1d1cb"/>
                </a:solidFill>
                <a:latin typeface="Elephant"/>
              </a:rPr>
              <a:t>La comida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460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29272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979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1388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224760" cy="4021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757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4259160" cy="347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2898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3149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006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67120" cy="344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657600"/>
            <a:ext cx="41227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3291120" cy="32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37209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852640" cy="3181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42786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29272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1543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1036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41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348160" cy="292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32450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36194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052960" cy="624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247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46897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2399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0080" y="228600"/>
            <a:ext cx="4803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97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59252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4210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7:00:50Z</dcterms:created>
  <dc:creator>student</dc:creator>
  <dc:description/>
  <dc:language>en-US</dc:language>
  <cp:lastModifiedBy>Karen Murano</cp:lastModifiedBy>
  <dcterms:modified xsi:type="dcterms:W3CDTF">2009-04-27T21:24:28Z</dcterms:modified>
  <cp:revision>3</cp:revision>
  <dc:subject/>
  <dc:title>La comida </dc:title>
</cp:coreProperties>
</file>